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8EB1-789B-4948-877B-F60BB5C9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3DC-764C-4BDD-AE0F-53DD9BB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E18-F62A-4192-91E9-0E94A7F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748-7672-4ABC-B111-1DE664A5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1AF2-9D04-462E-8BA6-0F25AD7B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7C1-5723-4474-9093-E61AEC11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33FB-116A-448D-9607-88FBB335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21AA-590B-4613-B7D0-7DA41A62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9A58-D63A-4673-9016-6E66573A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9D0C-8E67-4DD6-8614-BC2420A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AB04-BF9B-4D8E-BB42-EB656CC9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FC2-2DCD-4E64-98C8-4DDD71B0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5F9A-39FA-47A4-A6C0-BA005D0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BDC4-53C7-4ECF-B01F-1840DDFB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A734-B023-432C-B0B1-54C32E0D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7F5-FA87-407B-A40A-56A5EB82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F0B4-3144-4D49-8CD2-859FED59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97EE-8E61-424A-903D-1543279A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CC03-C8CE-4B1A-B11F-4817066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A40D-C967-477A-BF3B-0A0B2AA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4579-4729-4232-9F7E-2DB0E0E2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E508-4052-48A9-88EA-BB3D41F8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7ED-7E46-43DB-BE63-3BFD0719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1C3E-C363-4FD6-803E-A3EBBF3B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2517-A9D1-4134-ACDE-BCBB0E0B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9E82-353E-496C-80B9-DEE95B0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B2A8-A293-4E12-963D-7AF0037E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2E681-044D-4453-BD08-9B531BA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8C97B-A1AD-40B1-BC60-3337506D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D7CA-A47E-43FE-AD69-942217A2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9D699-31C2-42E8-90F2-1AB13526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815E7-6DCF-4BC3-9803-2B1AF22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ED89C-C8D1-44D7-B7A4-91264A1C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71A-01CD-463C-961E-48DDFCCD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D6A3A-EF18-4623-9BC3-0E20163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8C5A-A3A0-40E8-886B-AC4C9A6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5266-F05B-495B-AC12-26F70D84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7677A-9F64-4688-AF57-9FA218D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6E170-47EC-4C90-AFE5-A892A7E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3130F-4DC3-40FE-9FDA-D1F177D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D8B69-A270-464F-A697-9A060DE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0069-4DCB-474D-8F5E-85162AD0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03B27-6F21-4CC2-8856-B0A3FE00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DD444-1B26-4B11-AF44-7E348284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559-C783-4505-9263-09392767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8ECFE-EC44-4E9C-B9CB-4FC39A45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7A244-AAB8-41E5-B2A7-ADBCBDAE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7F2B4-4202-4150-95DE-A13B98D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E3D1-044D-46C7-9B86-4D1A3FA6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A5DEC-8F8E-4DB1-BDDD-5A79895B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10042-8479-4565-BEA4-C8B9FE06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C4309-B7FB-4A71-96B6-CE9FE97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787B-C1EE-4600-9811-85229D0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055B-4336-46E5-8764-5B4427BF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8509A-7691-45EA-B09F-F2B995F3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62B-B2FD-4854-BF40-A14F941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9AA28-4B85-409F-A05A-66D386B5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5AC1-8B2B-4701-8F67-77580CE5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DD2D5-3DCE-43B2-9AE4-C4EC457E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58DEC-7E25-46FA-981E-33AB514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AA1AE-4A6A-484D-A88A-D2228339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71A60-46EC-48D5-9F3A-BB9AA81A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B2864-7D1F-4ED0-8EA6-40D90C01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106B-8D18-4640-9A77-2F9ABE8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94C57-BEDC-4842-9377-AD28C92C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B0B33-8CE2-4D19-A0DA-4E24508C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0B3-1A1B-4F29-95DD-FCE66ADB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0FAE7-8F51-4E4C-9505-C5D6C119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65BB7-925D-4757-9492-D6D8D310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2B5DE-9CE5-4F92-A9A9-3DC1D0B8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8549D-42D3-4A20-836B-4C29B7AE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91699-CCD2-4213-8136-8D808D8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52D9A-5172-4B19-A431-1AD95A33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987A-0338-4F54-8473-200EFC12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DAF6-F6D7-4633-B56F-438A902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0477-67FE-4175-B76D-C22055D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837EF-D3D4-4984-A39E-8C5EA758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D80-901B-4024-B711-BA8A4336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681A-8F89-42D8-A5A4-85E9D2A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797F-986A-4EFF-B8FE-D259DB1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983E2-A829-4234-AD75-E5339DC0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1FD20-434A-4471-A2F4-7690C8D1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912A6-F7C6-4E97-868B-07FC8CA7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6E0-0644-46B6-B6EC-58C5A46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3852-B92B-4F1C-B438-471D232DC81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3618-A306-474A-BA4B-83558B53EED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0C5-6B50-4F33-BBF8-C5FF2BB4A72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AF4-29F3-4059-B02A-309DAD99331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5CA0-D160-4D7B-85A1-6A14104B475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AC3E-D462-4383-A702-CE25DA616B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E41B-0171-45C0-8905-E0C1AF78A77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CF7C-3635-4E9D-BAB2-B62F3DF74B5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163-A042-4744-BE54-9D474C50B05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75F1-DD23-4032-86DA-868ECBB82D7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2B8A-430A-4E55-9B3B-DAA3EB54F31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59C9-5A3C-41CC-84A6-C4670225697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3FB-E626-4F46-BC15-3BDB85E11CA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409C-763C-4515-984B-2F076D032D2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8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9DA-A140-4D9E-817C-AA1B9116A6A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F4E-18A7-4464-A9A0-FF36940EE94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Rectangle 6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orbel"/>
              </a:rPr>
              <a:t>проф др Светлана милетић Дракулић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F955-3F09-4103-8F9D-358D1CEAD8C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2065-7A02-4D7E-A444-1280B860592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1eeff"/>
                </a:solidFill>
                <a:latin typeface="Consolas"/>
              </a:rPr>
              <a:t>Синдроми оштећења кичмене мождине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rbel"/>
              </a:rPr>
              <a:t>Нагло настао пресек кичмене мождине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1.  фаза  спиналног шока, око 3-4 седмице), угашене функције кичмене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Corbel"/>
              </a:rPr>
              <a:t>Угашен сензибилитет за све квалитете</a:t>
            </a: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 од повређеног сегмента наниж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литава одузетост испод лезије ,атонија, угашени рефлекс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тенција мокраће, бешика проширена, атонична, паралитички илеус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Corbel"/>
              </a:rPr>
              <a:t>2. друга фаза, успостављају се функције к. мождине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Појачани мишићни рефлекси, повишен тонус, одузетих екстремитета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Рефлексна неурогена бешика-аутоматско пражњењ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Corbel"/>
              </a:rPr>
              <a:t>масивни рефлексни одговор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4491-D453-4693-9609-9B8DB194757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2014-88F6-4390-9E6E-0F3F58A323E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300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Brown-Sequardov sindrom</a:t>
            </a:r>
            <a:br>
              <a:rPr sz="2800"/>
            </a:b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(хемисекција-пресек половине)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На страни лезиј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1. Слабост екстрем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2. О</a:t>
            </a:r>
            <a:r>
              <a:rPr b="1" lang="sr-CS" sz="2400" spc="-1" strike="noStrike">
                <a:solidFill>
                  <a:srgbClr val="ffffff"/>
                </a:solidFill>
                <a:latin typeface="Corbel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 дубоког сензибилитет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79F7-F2D9-45D3-88D6-00C6DF69D2C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95FE-B584-4BC0-96C5-709231CA3E7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5410080" y="1600200"/>
            <a:ext cx="2971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контра ст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О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штећењ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спино-таламицки пу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не осе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 бол, топло, хладн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A48-AF6B-4C8D-A627-D9F1A897013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290C-45E0-429C-AA3D-5DB0C3225E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9" name="Picture 2" descr="spinalcord23"/>
          <p:cNvPicPr/>
          <p:nvPr/>
        </p:nvPicPr>
        <p:blipFill>
          <a:blip r:embed="rId1"/>
          <a:stretch/>
        </p:blipFill>
        <p:spPr>
          <a:xfrm>
            <a:off x="2104920" y="100080"/>
            <a:ext cx="4934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предњи синдром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040" y="1784520"/>
            <a:ext cx="603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-синдром а спиналис ант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одузетост (обострани пирамидни пут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исини испод лезије постоји дисоцијација сензибилитета (губитак за бол, т 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сфинктера и импотенцијом (обострана вазомоторна парализа испод места оштећењ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042-AF23-42C2-BBF8-750AEA6B64E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644E-BBFF-4625-93B2-B4803434A63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6748560" y="9698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25" name="Arrow: Right 6"/>
          <p:cNvSpPr/>
          <p:nvPr/>
        </p:nvSpPr>
        <p:spPr>
          <a:xfrm>
            <a:off x="6084720" y="3284640"/>
            <a:ext cx="574920" cy="14436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оштећење средњих делова</a:t>
            </a:r>
            <a:br>
              <a:rPr sz="4000"/>
            </a:b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рингомијелиј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оштећење спиноталамичког(боли т) у одговарајућим дерматомом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9177-D638-414A-992C-B805B175ABE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AE1-71A9-4574-A0B8-968AF3F9A1A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6105600" y="2852640"/>
            <a:ext cx="2962080" cy="4353120"/>
          </a:xfrm>
          <a:prstGeom prst="rect">
            <a:avLst/>
          </a:prstGeom>
          <a:ln w="0">
            <a:noFill/>
          </a:ln>
        </p:spPr>
      </p:pic>
      <p:sp>
        <p:nvSpPr>
          <p:cNvPr id="431" name="Arrow: Right 6"/>
          <p:cNvSpPr/>
          <p:nvPr/>
        </p:nvSpPr>
        <p:spPr>
          <a:xfrm flipV="1">
            <a:off x="5011560" y="3677400"/>
            <a:ext cx="719280" cy="3574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(централна </a:t>
            </a:r>
            <a:r>
              <a:rPr b="0" lang="sr-CS" sz="4000" spc="-1" strike="noStrike">
                <a:solidFill>
                  <a:srgbClr val="c1eeff"/>
                </a:solidFill>
                <a:latin typeface="Consolas"/>
              </a:rPr>
              <a:t>ш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упљина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040" y="1784520"/>
            <a:ext cx="502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Ц6-8, Тх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:</a:t>
            </a:r>
            <a:r>
              <a:rPr b="0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дјена, интрамедуларних тумо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ецује спино-талами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 који се укр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е осе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ју бол, тепературу на рукама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СИРИНГОМИЈЕЛИТИ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Ч</a:t>
            </a:r>
            <a:r>
              <a:rPr b="0" lang="en-U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КА ДИСОЦИЈАЦИЈА</a:t>
            </a:r>
            <a:r>
              <a:rPr b="0" lang="sr-RS" sz="2000" spc="-1" strike="noStrike">
                <a:solidFill>
                  <a:srgbClr val="7fd13b"/>
                </a:solidFill>
                <a:latin typeface="Times New Roman"/>
                <a:ea typeface="Times New Roman"/>
              </a:rPr>
              <a:t> сензибилитет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2C9F-00AB-4044-A845-B7D41D2C63B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1F2-677D-4705-9150-2192AC3E91D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6300720" y="1784520"/>
            <a:ext cx="28432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iringomyelia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упљина вр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и притисак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редње рогове-ПМН-у миотомима на Г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пирамидни пут на ногам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а сензитивне путев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ирингобулбиа (о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штећује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сензитивна једра  н. тригеминуса 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сирогомијел. дисоцијације с</a:t>
            </a:r>
            <a:r>
              <a:rPr b="0" lang="sr-RS" sz="2800" spc="-1" strike="noStrike">
                <a:solidFill>
                  <a:srgbClr val="ffffff"/>
                </a:solidFill>
                <a:latin typeface="Corbel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нзибилитета на лицу-Зелдерови прстенови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A20E-ADA1-4E5F-9107-5958558F84E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BCDF-13FA-43E7-9729-1AF92F0CCC3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симптоми оштећења задњих фуникула</a:t>
            </a: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 задњих фуникула(табес дорсалис, фуникуларна мијелоза, мултипла склероза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 дубоког сензибилитета(лак додир, тактилну дискриминацију, добоки положајни,  вибрациони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 лавабоа, прсти који свирају клавир, Ромберг са затвореним очим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239-BE97-456D-946E-CB54102C2E4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7ECB-D5D9-4969-B5BD-DB4B42B733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узроци оштећења кичмене мождин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исхемички инфаркти, крварењ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запаљенске лезије(мијелитис, епидурални апцес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тумори кичмене мождине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ултипла склероза, васкулитис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отрузија дискус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спондилоз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267-CD5B-40E2-AF9E-D94CC330DD1A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36B-DC68-446D-83F4-A759B97A6A3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F99-BDC2-46A7-8C37-782C5348A23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BD16-79F3-46AD-9955-1F7CA39FAA4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Picture 4" descr="N9_15S"/>
          <p:cNvPicPr/>
          <p:nvPr/>
        </p:nvPicPr>
        <p:blipFill>
          <a:blip r:embed="rId1"/>
          <a:stretch/>
        </p:blipFill>
        <p:spPr>
          <a:xfrm>
            <a:off x="1547640" y="907920"/>
            <a:ext cx="648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дијагности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нуклеарна магнетна резонанца НМР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преглед ликвор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МСЦ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ЕМНГ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ffffff"/>
                </a:solidFill>
                <a:latin typeface="Corbel"/>
              </a:rPr>
              <a:t>Биопсија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EA5-D457-4472-A380-B802B0D12E5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891-C0C6-48F0-9F3B-52093E2124C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Picture 3" descr="spinalcord36"/>
          <p:cNvPicPr/>
          <p:nvPr/>
        </p:nvPicPr>
        <p:blipFill>
          <a:blip r:embed="rId1"/>
          <a:stretch/>
        </p:blipFill>
        <p:spPr>
          <a:xfrm>
            <a:off x="6588000" y="2349360"/>
            <a:ext cx="18590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E6E3-FE41-44EB-AF48-0E4248E53E9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4F11-1361-4B2F-8998-7F927FC4054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79" name="Object 2"/>
          <p:cNvGraphicFramePr/>
          <p:nvPr/>
        </p:nvGraphicFramePr>
        <p:xfrm>
          <a:off x="1143000" y="533520"/>
          <a:ext cx="7238880" cy="5562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533520"/>
                    <a:ext cx="723888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405-68D3-43B6-A035-87A6E40A6FB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8E91-F2E6-42A1-9F83-E3B9CCA5CA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3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3"/>
          <p:cNvSpPr/>
          <p:nvPr/>
        </p:nvSpPr>
        <p:spPr>
          <a:xfrm>
            <a:off x="400680" y="549360"/>
            <a:ext cx="352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површинс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ол, температ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сексуалне сензациј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1FC-E498-4BF5-A255-8C844C3AFE4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563-F6F2-4D6E-A26C-20A64BC19A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Picture 2" descr="Untitled-12"/>
          <p:cNvPicPr/>
          <p:nvPr/>
        </p:nvPicPr>
        <p:blipFill>
          <a:blip r:embed="rId1"/>
          <a:stretch/>
        </p:blipFill>
        <p:spPr>
          <a:xfrm>
            <a:off x="3851280" y="0"/>
            <a:ext cx="3978360" cy="69087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393840" y="47628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За дубоки сензибилите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вибрација, пасивни покрет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зглобна и дискриминација две тачке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04D0-C0A1-4A3C-B968-2516A6913DA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1F0-2079-4103-A927-693C02AD658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1" name="Picture 2" descr="spinalcord12"/>
          <p:cNvPicPr/>
          <p:nvPr/>
        </p:nvPicPr>
        <p:blipFill>
          <a:blip r:embed="rId1"/>
          <a:srcRect l="0" t="22146" r="0" b="0"/>
          <a:stretch/>
        </p:blipFill>
        <p:spPr>
          <a:xfrm>
            <a:off x="0" y="152280"/>
            <a:ext cx="5105520" cy="6429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spinalcord13"/>
          <p:cNvPicPr/>
          <p:nvPr/>
        </p:nvPicPr>
        <p:blipFill>
          <a:blip r:embed="rId2"/>
          <a:stretch/>
        </p:blipFill>
        <p:spPr>
          <a:xfrm>
            <a:off x="4714920" y="380880"/>
            <a:ext cx="442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c1eeff"/>
                </a:solidFill>
                <a:latin typeface="Consolas"/>
              </a:rPr>
              <a:t>висинска локализација лезиј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астична квадриплегија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иво сензибилитета Ц1-Ц4-лезија изнад вратне интумесценци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миотрофични синдром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итава одузетост руку, спастична одузетост ногу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тична параплегија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лезија торакалне кичме између интумесценциј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литава параплегија-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 лумбалне интумесценцј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FE0-3111-4B5F-B2BD-A9ADBE78561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A78-BBCC-400D-89F1-43554E25D01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8803"/>
                </a:solidFill>
                <a:latin typeface="YUDutchR"/>
              </a:rPr>
              <a:t>Sindrom conus medularis-a i caudae equinae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440" y="7617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ндром конуса почиње нагло са билатералном презентацијом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понтани бол редак и благ у перинеуму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мишићне слабости 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одсутне или 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незна</a:t>
            </a:r>
            <a:r>
              <a:rPr b="1" lang="sl-SI" sz="1900" spc="-1" strike="noStrike">
                <a:solidFill>
                  <a:srgbClr val="ffffff"/>
                </a:solidFill>
                <a:latin typeface="Corbel"/>
              </a:rPr>
              <a:t>тне</a:t>
            </a: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, симетричне, ретке фасцикулације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симетрична дисоцијација сензибилитета, губитак  за бол и температурне дражи а очуван за додир у перианогениталној, седластој дистрибуциј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пателарни и ахилови рефлекси очуван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инцонтинентио уринае ет алви од самог почетк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orbel"/>
              </a:rPr>
              <a:t>оштећена мушка сексуална функциј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47960" y="6854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индром кауде еквине почиње постепено и једнострано, а затим асиметрично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спонтани бол је јак, радикуларни и асиметрича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мишићне парализе су тешке, асиметричне, фасцикулације уочљив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асиметричан испад површног сензибилитета седласте дистрибуције, без дисоцијације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ателарни и ахилови рефлекси могу бити угашен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функције сфинктера се јавља касније и у блажој мери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rbel"/>
              </a:rPr>
              <a:t>поремећај мушке сексуалне функције блаже изражен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7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Date Placeholder 4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A2B0-4BE6-4523-97D0-DA2C86BC699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0A30-5364-4792-B84B-1062292855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1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5E58-9E7A-47D8-9DB0-FA1BBCEFA8C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250D-3895-47AF-9C70-E14300B300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</dc:creator>
  <dc:description/>
  <dc:language>en-US</dc:language>
  <cp:lastModifiedBy>User</cp:lastModifiedBy>
  <dcterms:modified xsi:type="dcterms:W3CDTF">2020-09-29T10:13:20Z</dcterms:modified>
  <cp:revision>94</cp:revision>
  <dc:subject/>
  <dc:title>PowerPoint Presentation</dc:title>
</cp:coreProperties>
</file>